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8940-4D27-4F18-B890-D06E805C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5CD-0955-4D37-8F15-35605ED3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F9B-8318-4046-AE2E-E402B7F78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E709-3B17-46C3-A836-F0E52CE8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04A4-D404-44CF-8447-31AD5A33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03B4-4918-48A5-9683-13EED4F4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D1DE-5277-460D-BA71-2644790A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489-96A3-4932-82B1-5061B44B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9019-02A7-42C9-A255-CBB09FC5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F60-6913-4A45-AEF6-6D700827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A00D-6279-40A2-93EC-2E08DA75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0FE-AF04-4ACA-B7FD-FBE567B18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A3DA3-C887-4999-8307-30114880C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S/Medical Retention Bo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 Process MOS/Medical Retention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a requirement to process MOS Medical Retention Board for Soldiers being evaluated and AR 600-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  Identified the appropriate voting and nonvoting members, their responsibilities, and the process for MMRB summa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308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3T15:34:36Z</dcterms:created>
  <dc:creator>ADG</dc:creator>
  <dc:description/>
  <dc:language>en-US</dc:language>
  <cp:lastModifiedBy>Administrator</cp:lastModifiedBy>
  <dcterms:modified xsi:type="dcterms:W3CDTF">2005-07-08T12:11:42Z</dcterms:modified>
  <cp:revision>12</cp:revision>
  <dc:subject/>
  <dc:title>Process MOS Medical Retention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9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